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FA5-6169-4611-AB5D-19586D98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DF5-5B3B-487A-BEE5-EC02073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FA4-B0A8-4222-8688-06AF782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92D-BE61-4BAB-9B5E-D57FF3DE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E9C-00B8-40E2-85AF-20785AB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420-FA7D-46B8-8F53-5545E14E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BA7-D710-41EA-A502-2F3DCE24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CE0-0CB7-450F-80EE-34586446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5FA-E583-4C71-8B69-6C53E9C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575-A89E-4CFA-97B1-3FAC9FF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72A-48C9-45AF-857D-444018D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0A1-80E5-4E8E-B114-7C5CA05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7BF-8007-47BA-8FF8-60203CA80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6, DNA was first used to exonerate a man accused of murder. That year was also the first year DNA was used to conv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biggest revolution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ENSIC 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scientific analysis of evidence for legal invest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Guanine_chemical_structure.png"/>
          <p:cNvPicPr/>
          <p:nvPr/>
        </p:nvPicPr>
        <p:blipFill>
          <a:blip r:embed="rId1"/>
          <a:stretch/>
        </p:blipFill>
        <p:spPr>
          <a:xfrm>
            <a:off x="1944720" y="1685880"/>
            <a:ext cx="52545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Adenine_chemical_structure.png"/>
          <p:cNvPicPr/>
          <p:nvPr/>
        </p:nvPicPr>
        <p:blipFill>
          <a:blip r:embed="rId1"/>
          <a:stretch/>
        </p:blipFill>
        <p:spPr>
          <a:xfrm>
            <a:off x="2800440" y="1685880"/>
            <a:ext cx="3543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all carbon rings with varying single and double bonds. The “C” is usually omitted when writing organic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nds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valen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means that the electrons are being shared between each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doub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double bond contains fou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en sing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ingle bond contains two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dna_bases.gif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hosphate.jpg"/>
          <p:cNvPicPr/>
          <p:nvPr/>
        </p:nvPicPr>
        <p:blipFill>
          <a:blip r:embed="rId1"/>
          <a:stretch/>
        </p:blipFill>
        <p:spPr>
          <a:xfrm>
            <a:off x="2590920" y="1828800"/>
            <a:ext cx="4267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oxyribose sugar.jpg"/>
          <p:cNvPicPr/>
          <p:nvPr/>
        </p:nvPicPr>
        <p:blipFill>
          <a:blip r:embed="rId1"/>
          <a:stretch/>
        </p:blipFill>
        <p:spPr>
          <a:xfrm>
            <a:off x="3041640" y="2674800"/>
            <a:ext cx="30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: a single unit containing a phosphate group, and the deoxyribose sug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nomers are then repeated and linked in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nucleotid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mer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are held together with covalent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ar-phosphate backb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backbone II.jpg"/>
          <p:cNvPicPr/>
          <p:nvPr/>
        </p:nvPicPr>
        <p:blipFill>
          <a:blip r:embed="rId1"/>
          <a:stretch/>
        </p:blipFill>
        <p:spPr>
          <a:xfrm>
            <a:off x="1219320" y="2209680"/>
            <a:ext cx="4895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es then hang off these like half rungs of a 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cleotides are then linked together in the famou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double hel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technology is used in genetically modified food (corn), medicine and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stands for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xyribo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cleic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 molecules with molecular weights of 6 million – 16 million 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 pairs held together by hydrogen bonding which are weaker than coval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hydrogen bonded dna.gif"/>
          <p:cNvPicPr/>
          <p:nvPr/>
        </p:nvPicPr>
        <p:blipFill>
          <a:blip r:embed="rId1"/>
          <a:stretch/>
        </p:blipFill>
        <p:spPr>
          <a:xfrm>
            <a:off x="3533760" y="2440080"/>
            <a:ext cx="2076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double helix.jpg"/>
          <p:cNvPicPr/>
          <p:nvPr/>
        </p:nvPicPr>
        <p:blipFill>
          <a:blip r:embed="rId1"/>
          <a:stretch/>
        </p:blipFill>
        <p:spPr>
          <a:xfrm>
            <a:off x="3048120" y="22096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double helix II.jpg"/>
          <p:cNvPicPr/>
          <p:nvPr/>
        </p:nvPicPr>
        <p:blipFill>
          <a:blip r:embed="rId1"/>
          <a:stretch/>
        </p:blipFill>
        <p:spPr>
          <a:xfrm>
            <a:off x="3276720" y="228600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uble helix III.jpg"/>
          <p:cNvPicPr/>
          <p:nvPr/>
        </p:nvPicPr>
        <p:blipFill>
          <a:blip r:embed="rId1"/>
          <a:stretch/>
        </p:blipFill>
        <p:spPr>
          <a:xfrm>
            <a:off x="2895480" y="2209680"/>
            <a:ext cx="275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ouble helix iv.jpg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gene.jpg"/>
          <p:cNvPicPr/>
          <p:nvPr/>
        </p:nvPicPr>
        <p:blipFill>
          <a:blip r:embed="rId1"/>
          <a:stretch/>
        </p:blipFill>
        <p:spPr>
          <a:xfrm>
            <a:off x="2666880" y="233856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one of the tw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und in eukaryot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is RNA: 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nam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are found inside the nucleus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NOT GET THIS NUCLEUS CONFUSED WITH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a molecule made up of compounds which are made up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ments making up DNA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lements combine chemically to form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parts to a DN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ot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clu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base pair containing 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 sugar group (deoxyribose for DNA, ribose for 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gar and phosphate groups are the same in each of the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ce will be in the nitrogen b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de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basemolecules.gif"/>
          <p:cNvPicPr/>
          <p:nvPr/>
        </p:nvPicPr>
        <p:blipFill>
          <a:blip r:embed="rId1"/>
          <a:stretch/>
        </p:blipFill>
        <p:spPr>
          <a:xfrm>
            <a:off x="2508120" y="1600200"/>
            <a:ext cx="412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ytosine-chemical-structure.png"/>
          <p:cNvPicPr/>
          <p:nvPr/>
        </p:nvPicPr>
        <p:blipFill>
          <a:blip r:embed="rId1"/>
          <a:stretch/>
        </p:blipFill>
        <p:spPr>
          <a:xfrm>
            <a:off x="3276720" y="20574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hymine_chemical_structure.png"/>
          <p:cNvPicPr/>
          <p:nvPr/>
        </p:nvPicPr>
        <p:blipFill>
          <a:blip r:embed="rId1"/>
          <a:stretch/>
        </p:blipFill>
        <p:spPr>
          <a:xfrm>
            <a:off x="2638440" y="1785960"/>
            <a:ext cx="38671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2:34:36Z</dcterms:created>
  <dc:creator>jmngying</dc:creator>
  <dc:description/>
  <dc:language>en-US</dc:language>
  <cp:lastModifiedBy>jwwaknin</cp:lastModifiedBy>
  <dcterms:modified xsi:type="dcterms:W3CDTF">2011-06-09T17:52:27Z</dcterms:modified>
  <cp:revision>21</cp:revision>
  <dc:subject/>
  <dc:title>STEM PROJECT</dc:title>
</cp:coreProperties>
</file>